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461-6D1A-4745-BA8C-707BAF4E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07D-8FEB-48AF-9229-D678CD83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755F6-627E-46F6-AFA5-A7AD894A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827DB-F6ED-4FFE-B883-1DE40060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4A132-E632-4AB8-93D8-41599603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72253-D71B-44D8-BF7E-78A07527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4D3F1-4EAD-4005-89B7-58D940DF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E4036-F886-4A53-870B-F05A8C1E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177E9-A107-43C6-9E10-77A3A973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B4314-9B39-4365-A190-69C288C0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ADD0D-5324-47BD-8CBA-AC9DF8CB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A8B24-0EAC-460B-9D01-EF297239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043-20E7-4B61-AE66-749B7AF6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5DCB7-3ABB-414A-8B6A-FD681E03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5A498-F9FB-402E-B6E9-7652D3C0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22CBC-ABE5-477B-9A8C-B1D0C6A2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D7C0B-9B5C-4305-9C82-6DF4E14C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2DC22-A7F7-4E3B-B875-AA85C60C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D16B5-F148-4348-950E-1FD122C4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5E351-90D9-49CF-9E49-4C3A416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F0C86-E6A5-459A-8334-7CC06CF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D2AAC-EA48-4AE0-98D7-D85F6F12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6B384-0739-40A6-94B6-6F0E0F33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EDD-B161-44DA-A694-EB15B808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07E6B-060E-474E-9903-523EF6D1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BC02E-BB63-43E9-A57C-663441B1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1C12B-8220-43C5-9B76-28E6DFC0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658DC-A553-4724-BDEC-7DFEC370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BA835-94E4-4157-8E1F-3C8C3D2A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967B2-84A0-4EB1-840E-45E07A50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9FBED-0856-44DD-BD07-BBDB6039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F20EA-9351-45FC-9EE6-4E6E51BC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6E18D-7A39-4470-8DDA-9CC6D7AF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2CAD5-AC0E-4C8F-9A7B-0FF8857B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D867-8499-462A-9BC3-9E50C3F9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D73A3-A406-4CE9-A2E9-AC8FB9C6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E538-F00F-4596-AE99-2F84B4E2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12E1C-C694-47A8-8EB0-A8FC0A7A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1BCC2-0716-412A-A440-5E2339C5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6F868-368B-441F-BDA9-5343FD7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E365B-83C7-441A-8B94-D35D5351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CD98F-F680-4FAF-8B56-6C427543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71F9A-D1AA-44E6-AF11-5CFD216C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DF7DC-222F-4DDC-9D96-765E991A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07245-F322-4FEC-8BB6-C4448E2A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DC36-44E8-485C-80FD-EAB091B7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D0465-4628-46D0-A29D-F3DE125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A0D5F-8764-4F18-8441-815F0F73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B560E-4107-49AB-B94B-5B1277BA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62874-849D-44CF-ACCB-31A91D94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93297-B075-4F32-98CA-AB4D95FF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5B4DA-8B92-4FA1-9F10-90851BFA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DA247-8FFE-4275-99F3-D49D2C81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CFBA2-8A87-4922-9CA5-8296AD5E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D86AD-342C-4362-AAD0-6345B684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5C735-07BA-4348-972B-A597491C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543D-6D56-4816-9400-A825AF57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A8CFC-04CD-4E9F-A2EF-5C280DC9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32DA5-9FFF-49D7-A359-4A07B47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06706-9050-4870-98DE-D5B1EBAD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C376E-214F-4B95-BEB0-DFA3BA59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C7017-7229-47FA-981A-1B7F48B5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8AF25-3914-4E99-B4E4-9EB53E9E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CD450-FAC8-442E-A5CA-8B7C0E80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F7A9E-994E-463B-BF22-A9F690CF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99315-95EE-4459-B6CD-57A4237D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24A0F-94C5-4E99-B789-9636AC78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2A32-A082-4EDA-B196-EFFF04E1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43886-2D0F-46B6-8C76-B989310C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3D7B3-A491-4D4E-94E8-93EB92A3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F7FF6-39B7-4E67-8978-8E4AD857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7BD02-ED42-4796-B10E-A672409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387BE-5021-4CFF-A74A-112A130D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2CCF0-C3EE-48B4-8DD4-42D49323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C3120-3D7A-4CF9-A2BF-B682139D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05CF0-1D78-47D7-A8C0-3FDF5FC3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916B8-571B-4E72-85F7-F2F81856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2EE68-7936-46E1-A013-49391EA5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F2D1-BB96-452E-942F-21E1E360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377EB-D483-4F5F-B06F-5D0C14C5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E3DF79-2DA1-436D-AC8B-DCE120FE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C4695-027A-4174-91B2-3E0E17F6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41FE5-05D6-41C2-A77E-D4ECC5B0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803E3-F417-43BA-8551-B0D4CD92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D86DA-9157-4196-89AF-541A19C1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8A15E-8F1A-4E13-B0E9-B079564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5C7C5-C934-43DF-9E4A-0F65361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63370-2CC2-4BE9-8769-7F7F27A6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9645F-09B0-4DF9-8055-A40F9432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4540-955B-426C-9F30-80FAD484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4911F-A4B9-49CF-932C-F629901E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53006-73D6-459D-A3CC-C3E62F8D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77FAB-BD1C-4866-83AC-1A53AB0C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05CD4-C231-4864-8B99-F44F21A3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A1BC3-1F94-4ED2-841B-C7E6B4C6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D7E33-3021-4DF6-8989-2479D48D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E62C8-9976-46B9-8152-99BDEA36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BABC0-D1BD-4A1C-BA55-28BA67BD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A9909-872A-4CE8-A6A1-A58986C5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84C00-0FE6-478E-B78B-28AF48ED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6415-2F3C-4E2C-92E8-EF85D130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04AF2-DFDA-42CE-B344-F0037F2F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5E724-03ED-4E73-80D8-1C62F1E5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17323-567F-4EF6-9EDC-923ED533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59727-B264-47A6-A36E-F9199539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B44FFC-7D87-4B45-A2D4-066392DD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091CA-9A29-4195-BE5A-750DBB11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39F02-0E92-4883-A594-65382D21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42A57-A32B-45C7-9258-14D22757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31A109-AEBC-4BC9-A70A-D7C4CC4F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0A5F7-353E-4421-ABFC-42C0BB62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25C-A04B-4556-9FF0-A734F452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2CE0-C1E7-4FF1-BC23-58C327D7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B63C7-4FBF-4A1C-AFB6-B30561A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3DD45-F4B1-4E13-B3B4-EDA67EA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FB70A-113E-4D9B-A43B-FA5C009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4184D-8DB7-4116-BF66-E5BFF7B5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3A951-CBF4-4992-B514-ABB8BAC5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14C03-B7BF-44DC-8813-BECF922A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9229A-736D-492B-AE82-98FFDFF1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12D96-CEBF-4E9D-A036-BD6F4E50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3E2C0-5DAF-4369-A1A8-CEAEEA99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FC9CD-5F11-402E-A98E-4FFC0ACE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81CA-3264-4F40-A263-98D9A61F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27A7D-A4C7-4E36-93D1-B3EA2EB4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7A6E8-378D-472C-9490-B19EC4C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1D4DA-127A-43B3-8AE3-36BF8FD5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9DB15-F008-47E3-A33E-1A99DD81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75FADB-A075-4B0C-9239-AE4C3DD7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71ECD9-85ED-4278-B171-7F28B9F3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3BC60-300D-4767-A694-0FB286BE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619D7B-D3BF-4497-8A00-DFA02C57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88CDC-D4CC-451F-AA74-99A3018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5B5B8E-67C8-4DC9-A761-E6F9D918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C810-9052-430F-8509-93ACDFB6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534A4-95C4-4642-BB02-8E457513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69435-AB58-412E-A940-2F529728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48212-11FC-452D-BAD9-B1B08CBA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37B609-B7D7-41E1-B160-3DDD6F63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65DB8-FF59-4167-B82E-164B3730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8A499-F297-4FAF-8EF8-6E06CA1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D954A4-4540-4350-8A64-2103FA29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AA73C-F926-4AA2-ADC7-51A23665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14250F-05F5-4E20-B104-34820E30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609C8-FDAA-4FE0-98F6-5CCBD9D2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26D1-D5CF-4040-B594-EDC3C52B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B96BE-992F-431E-B6E6-4C2F623C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4A499A-F224-48E4-AB72-D2C6E16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6AA80-84E4-40BC-82A7-140231F7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D4159-F21C-422A-9BD2-C98F43B8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24384A-36E6-4F3E-A1DF-E49024F7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C42F45-E2AB-4A9D-93F3-42C50FED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D8E384-4AF3-4343-BEB3-502A5C3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476C5-5297-4CD9-86B6-EF5A26BE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65D90-763F-4126-B37E-22D87843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2E9A91-20E0-4C33-8EF5-DC97C744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9EB5-E11A-4FFD-9800-4FFB9BA6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C1547A-042D-4A83-B2F4-9F53C927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213F3-11F7-4A77-A37B-F59EDD4A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11357-4A71-4953-8C0E-C2D8804E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781D2-1A3A-4442-83AF-893BDB81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9A4D09-FDDA-4A75-9E9E-6D25EB14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D10E4-E4BF-47D1-B730-9B92EA1F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0C8A7-3017-4E2A-94C4-AFED788E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E62E1-C4CB-41A4-A691-01467A15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B2AB1-96E3-48F4-8DF9-AF568602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85D28C-4FDB-4EDA-8A00-566CC902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9CD6C-8333-4EE3-B56B-E030BA62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E9D526-F1C9-4FA7-AFD1-C6178297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48E738-EB75-404C-B9D7-0673F20D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04294-8AB2-417A-9A7C-7F6C399F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04BA29-17BD-4BC4-AB91-26625E67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4D7F5E-B2EB-4716-BF01-4092BF46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C88CD-718A-4F87-B617-44F0DDDD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1F965A-1ADA-4492-8632-122456BC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4E3BBC-A0A5-43A0-804D-6185758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98EC72-1D14-48E5-BE89-66A90EA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304408-0B82-4333-8944-6A50F741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961A-C8F9-46E9-AF6D-11FB82AF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7D1DE6-C40E-4A3B-8349-4339B320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4EB071-473B-4EFA-9FF7-F72009E7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496D01-F863-4B85-BF29-719FAAE9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EDEFC-979C-4863-9FCB-AE02FC8D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9BE68B-7919-4948-8636-7BBDFC4F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D1C5AD-BD61-4192-8563-6E8CCAF4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D8F057-47AD-46A7-8593-1DE40DA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72DCC3-0E95-4322-BD16-E9A1252C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B5CCB2-44FB-40B0-80F9-2D0BB7D8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16080F-71D4-4E80-9386-C4A66383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B219-DAAE-4FDE-B9EA-A275EE5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94BC7D-5591-42BC-A906-93308467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EF3EAB-BBEF-47CD-AA8B-2E69B8B2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59AD67-D2DE-44AB-B806-638DEAE3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AF1EDC-C187-41FB-95A0-C6BE7AE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D4EE3A-787C-41BC-9F8F-BBAC4EA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EC2D08-9B1A-4808-BB8A-DE374794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15AAD8-D7F6-444C-90FA-F9CC0BF8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81B92E-125D-40A7-98FE-C353AD81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C03920-5773-4151-A719-79E11430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64CDD3-3C40-4BF3-880F-D1F71672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8223-A0AF-43BF-AED0-5EF46CDA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046FA1-428C-4CD2-9348-D99ED0B5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E93ACD-710F-493B-A3DC-EF87975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135695-486F-487F-B076-786CF3EC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B6114C-D455-4026-9E89-78B142AE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F30630-79F2-4410-B63E-30643270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514D2A-A73A-4B94-8298-8658B7F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FF0B82-4453-4428-A59B-B2B1F5AC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66147C-B1AD-49AA-BE26-A9F4DEA7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8F9ACA-297A-4AA1-A4BD-93ECE9E3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68D412-E1DD-43D5-AE0C-9F8C4825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103E-E860-4A85-B527-EC1FD2E7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3093F4-91B9-4E32-855D-ED5CCCBE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85BA54-23C0-43B1-BF5A-EAFEFC69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E390CD-286C-4E67-8A01-08007196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0002AC-E865-48FE-BDE7-E5F4567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49844B-DCAA-4C5D-A279-F4D7F34D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306A2B-77EE-4988-B279-15F2892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133DA3-7CB1-48F7-9C93-823D920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0A33B6-CDF8-4BA0-9071-11B998FD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8F713B-EE2C-4947-8970-F6A2446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9C32B0-B419-446A-A31A-B4494A0D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E14-AB3A-406F-B1AA-3E0C75D3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38838-BFE7-4D90-8B8E-B959558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F89680-6C0B-4C08-AC6D-DEC5CCAD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84C0CF-D908-47E9-9BB8-A8E29908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B75615-A874-41F7-9A61-B729D2C3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919709-2673-4456-8EAB-142062F5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F7BFD9-5225-4822-B0CB-CCD6C1AA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74789D-A981-4344-8C65-E9ADAD0E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CB6FBE-A05C-456A-AA14-E7BBEB32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8975D0-2EE0-4FED-8B7D-FABFFC88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896228-21B9-4A53-9F56-C0449E1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68AAEA-A141-492D-B97B-3FACA25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D646-05D5-4AB6-9693-70468C0C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4276B1-AC8D-42E5-86D1-F462B6A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A497C4-33FE-4E07-BDC1-C7119B75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8B269D-18E5-4563-A6B5-B1876F24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D64D-4047-4824-B680-C59348B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78C7-D0EE-40CE-8943-48BA6E0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8586-101B-4FF5-934F-EF0B8FFC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E115-504F-42A0-B7DB-2A9B4CE2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5B892-B3ED-471F-B4D1-C2548AF1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5B43-2EDD-41EA-AC8C-226540E3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E7DE-699C-439D-9BD5-92E65286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F703-4142-4920-9DFF-112EC097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E04-F9C5-4352-88B8-A2C3C934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94D7-F239-47A3-92F1-4E1DC72F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F094-1944-47E3-A925-0ADCE6C8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DDD4-CA00-4F56-A127-57856B18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35FC-3DFB-4789-8D36-9374D27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D2C25-D1B6-4268-A3E6-BB2FC8E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443A-98BB-46CF-8D06-C4DFC88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D1AA-DB12-4A5D-A738-2F363095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9DF0-EAC0-4DE7-B046-1BF5642B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A0B3-92F1-4BF6-A166-26E523E0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6454A-2902-4C8F-9EC3-1C58EE78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359-548C-4DB2-9A5A-716B6A8F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BDFCD-5A02-420B-880A-4E22AAB6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756CB-8C9F-41EF-93BA-9EAC22B2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EF2F9-D39D-4A7B-A607-A450ED89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E2D93-FDBA-4DE8-A850-666C8C78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6473-CE0E-4496-981A-135E17C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72DDB-A70F-45B6-80E1-629D8FF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BF85-79F9-4710-A6AB-22C2B7D7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4F323-0F24-4099-AF56-3E8973B3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2F5F-0A40-42C0-8D91-D5D74A6B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13F7-4607-4920-A4BF-0687ABF4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4AA-C83F-4358-99B3-26EEFB35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CC08F-848E-4BE0-954F-9D401494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49470-657E-49AC-8F46-2217F31E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DC950-A093-4A24-A866-32FFC83E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6C1B2-97BE-4455-A707-F4930964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5A9D8-3EC5-4BE6-9CA1-C829374F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D8AA4-2421-4406-A713-70CC5E62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93D32-A596-41C1-9A8A-0D7A7719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303C2-214C-4378-AA0C-5360F40E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34A9-FFDD-4F9A-9A09-6E7C281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BA246-E80D-4D9A-AC49-9793A406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992-42E8-4AE6-BB66-7C90324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463C9-6FD5-42AE-A838-ECC4973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D5A1D-7CA1-4266-BB08-9E539E4E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29C7-922E-41CD-A620-B980EF02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C528F-70B8-43E2-806B-73329743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0C004-DE83-4285-9869-A5DCCB1C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A6E2C-C4FD-443A-9B30-59929FCD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EDC9D-FD22-4D3C-9153-1A302D6D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34A7B-2C07-452E-9C86-A02728B4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6079F-D1B0-4BB6-B78D-4A409DB3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306B-7167-4545-ADD2-0EB57DFE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C50-E585-4E31-8C6E-6AF6669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58A31-C000-467B-B535-BBABA76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2F5A-2A61-42A6-A827-A939374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5B7A-1E82-4ED4-A278-6BBD7B9A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8AB51-5F3F-4F22-85C7-857A8A35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C2F13-F211-481F-9950-6B525C06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8FACF-4976-43A3-9684-1D91397C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E7044-E204-4C46-8F7E-D8BC9865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C669-7515-4229-88B6-6AA868CC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E55F6-AC4F-472A-9F0B-F042C14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AD58C-EDBF-46B1-9A4D-32DC0BF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0B7-8E7C-48F1-849D-2E73319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8AB21-8700-4499-A8E3-38EC360C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C514-7FF8-4D5F-A462-5FF46A10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3F749-F520-4DFA-94E5-663FD6FD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05120-B5CF-4498-891F-C99B3DA1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F32C6-D89F-4C82-8272-0AE3FAD6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F7299-E87F-4619-A243-792B9458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5EF61-4311-46B6-9FA9-7C90E28D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EA507-3EDE-4445-9BC2-CBB74F0F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DD7B4-D238-4A3D-8540-399CD1CA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D9C0C-A83A-4CC2-AFC9-C3EA945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A56C-10FB-472A-80A0-ABB8F8EE90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F9B2-CCF4-467B-8080-F7097BBCC8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338-1E96-4447-B066-472F5C75EB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581E-20DD-4D9D-B188-D2D0F8A684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E041-9CE4-4608-B0F2-48A7E9BD33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AC21-3533-4B6F-98A8-7D2CBF8B5C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84C4-8EDF-42BC-B9EC-3BBD83B799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5248-CECE-49BB-9E4C-5DBDAC1AA7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C236-5DAA-421C-911C-CCBCFCDAA2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5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D1D8-9D90-4969-8DD5-7241FD6C18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66C-DA2A-4B48-96F0-6DFFDFBB51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7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12F2-181D-4A7B-8081-2621D8A559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6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08E3-0F2A-45D3-A389-1024A1DD9C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6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951-383E-4D95-8B80-F9DA9B6E0B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6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22C3-5504-4BC9-82E4-5CF8ACC7EE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452B-24BB-4A21-B014-A5DD3DC875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945F-C890-45FE-A11F-3F08E6660A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7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7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D6E9-F3D4-4998-BF94-9E7A79C4C53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73BE-98CA-4632-9649-020B96A592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B2C4-E1CE-4816-A3D8-063321EA0F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5576-FC30-4CEB-9783-73C6CE7638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9345-85E1-42AB-A335-143D7A7BAA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6871-8066-482E-AAB5-2C86FD550A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BE29-A504-4465-87C1-2FFF044BB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DBB6-1C90-455E-BA8A-7B7A3D0784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0328-E71E-4D42-9A16-B20564B1BE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рок 2. 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профессия? Выбор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684360" y="981000"/>
            <a:ext cx="815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Профессия (лат. </a:t>
            </a: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Professio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род трудовой деятельности, являющийся обычно источником существования и требующий определенной квалифик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8" descr="C:\Program Files\Common Files\Microsoft Shared\Clipart\cagcat50\PE02002_.wmf"/>
          <p:cNvPicPr/>
          <p:nvPr/>
        </p:nvPicPr>
        <p:blipFill>
          <a:blip r:embed="rId1"/>
          <a:stretch/>
        </p:blipFill>
        <p:spPr>
          <a:xfrm>
            <a:off x="6659640" y="4653000"/>
            <a:ext cx="19778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4360" y="228240"/>
            <a:ext cx="815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Профессия характеризуется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539640" y="1600200"/>
            <a:ext cx="829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ует специальной подготовки, обу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куется человеком регуляр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ужит источником средств к существов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1"/>
          <a:stretch/>
        </p:blipFill>
        <p:spPr>
          <a:xfrm>
            <a:off x="7497720" y="5180040"/>
            <a:ext cx="1646280" cy="16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конкретный вид деятельности в рамках какой-либо профессии. </a:t>
            </a:r>
            <a:br>
              <a:rPr sz="40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457200" y="386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Должност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это конкретный трудовой пост в организ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пределите: профессия, специальность, должность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оляр, шахтер, летчик-испытатель, шофер, хирург, учитель, парикмахер, швея, директор магазина, судья, пианист, продавец книг, водитель троллейбуса, инженер-конструктор, врач, учитель математики, завуч, менеджер, заведующий отделением, ландшафтный дизайнер, веб-дизайнер, милиционер, психол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выборе профессии необходимо учитывать  факто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Oval 4">
            <a:hlinkClick r:id="rId1" action="ppaction://hlinksldjump"/>
          </p:cNvPr>
          <p:cNvSpPr/>
          <p:nvPr/>
        </p:nvSpPr>
        <p:spPr>
          <a:xfrm>
            <a:off x="179280" y="1341360"/>
            <a:ext cx="259236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Oval 5">
            <a:hlinkClick r:id="rId2" action="ppaction://hlinksldjump"/>
          </p:cNvPr>
          <p:cNvSpPr/>
          <p:nvPr/>
        </p:nvSpPr>
        <p:spPr>
          <a:xfrm>
            <a:off x="3203640" y="3500280"/>
            <a:ext cx="266364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Oval 6">
            <a:hlinkClick r:id="rId3" action="ppaction://hlinksldjump"/>
          </p:cNvPr>
          <p:cNvSpPr/>
          <p:nvPr/>
        </p:nvSpPr>
        <p:spPr>
          <a:xfrm>
            <a:off x="6932520" y="1341360"/>
            <a:ext cx="221148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Rectangle 22"/>
          <p:cNvSpPr/>
          <p:nvPr/>
        </p:nvSpPr>
        <p:spPr>
          <a:xfrm>
            <a:off x="0" y="234936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ания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е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кло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Rectangle 23"/>
          <p:cNvSpPr/>
          <p:nvPr/>
        </p:nvSpPr>
        <p:spPr>
          <a:xfrm>
            <a:off x="6084720" y="2421000"/>
            <a:ext cx="3059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можности лич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соб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зн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ояние здоров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Rectangle 24"/>
          <p:cNvSpPr/>
          <p:nvPr/>
        </p:nvSpPr>
        <p:spPr>
          <a:xfrm>
            <a:off x="2484360" y="4653000"/>
            <a:ext cx="33181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треб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ынка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д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9" name="Picture 25" descr="j0149481"/>
          <p:cNvPicPr/>
          <p:nvPr/>
        </p:nvPicPr>
        <p:blipFill>
          <a:blip r:embed="rId4"/>
          <a:stretch/>
        </p:blipFill>
        <p:spPr>
          <a:xfrm rot="1464600">
            <a:off x="178920" y="4292640"/>
            <a:ext cx="2160720" cy="2149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знательный выбор профессии (специальности) основывается на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ях о мире професс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ях о выбираемой конкретной профе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и своих интере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и своих способ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и своих сильных и слабых каче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янии своего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те материальных условий семь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те ситуации на рынке тру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шибки при выборе профессии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86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ытующие мнения о престижности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лечение внешней или частной стороной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знание мира профессий, выбор «за компанию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умение разбираться в своих способностях, личных качеств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знание пути получения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нос отношения к человеку – представителю той или иной профессии – на отношение к самой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ождествление школьного учебного предмета с професси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4"/>
          <p:cNvSpPr/>
          <p:nvPr/>
        </p:nvSpPr>
        <p:spPr>
          <a:xfrm>
            <a:off x="1403280" y="1460520"/>
            <a:ext cx="676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«Если вы удачно выберите труд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вложите в него свою душу,                                                                                             то счастье само вас отыщ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бо возможность занима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любимым делом, —главное и непременное условие  счастья человек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. Д. Ушинск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7:36:28Z</dcterms:created>
  <dc:creator>A0001</dc:creator>
  <dc:description/>
  <dc:language>en-US</dc:language>
  <cp:lastModifiedBy>ирина</cp:lastModifiedBy>
  <dcterms:modified xsi:type="dcterms:W3CDTF">2010-12-18T09:56:58Z</dcterms:modified>
  <cp:revision>27</cp:revision>
  <dc:subject/>
  <dc:title>Секреты выбора профессии</dc:title>
</cp:coreProperties>
</file>